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9D6-BF08-4FC2-B55A-E8BDFA6D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95E-6011-49A6-B127-9F5663E3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AE0-9BF2-44D9-918B-0325060D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01D-C7DD-4548-A1BA-67D3785A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BF5-45F8-418F-A9B9-3AA13150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F9C-2A77-4BE3-9CD8-CFE95BD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799-760A-4B1E-B78A-AF108878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BB3-325D-4D78-A510-4C23B1BB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BEE-9E1A-40C8-AD2E-B47193D2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914-7867-4266-8495-1076D0C3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C9F-9596-460A-9565-65E2C40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2F9-9D53-4E42-8C41-97D42D2E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A0B2-F0DE-41DF-9D34-E6C9F9C6A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What do we mea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y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“Control”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6065"/>
          <a:stretch/>
        </p:blipFill>
        <p:spPr>
          <a:xfrm>
            <a:off x="762120" y="457200"/>
            <a:ext cx="784836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6324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43810" r="0" b="25460"/>
          <a:stretch/>
        </p:blipFill>
        <p:spPr>
          <a:xfrm>
            <a:off x="685800" y="1447920"/>
            <a:ext cx="7696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43810" r="0" b="25460"/>
          <a:stretch/>
        </p:blipFill>
        <p:spPr>
          <a:xfrm>
            <a:off x="685800" y="914400"/>
            <a:ext cx="769608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65903"/>
          <a:stretch/>
        </p:blipFill>
        <p:spPr>
          <a:xfrm>
            <a:off x="1295280" y="1295280"/>
            <a:ext cx="6553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1219320" y="1295280"/>
            <a:ext cx="655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1066680" y="1219320"/>
            <a:ext cx="7162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143000" y="91440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1440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1066680" y="68580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15559" r="0" b="47353"/>
          <a:stretch/>
        </p:blipFill>
        <p:spPr>
          <a:xfrm>
            <a:off x="990720" y="160020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2918" r="0" b="39404"/>
          <a:stretch/>
        </p:blipFill>
        <p:spPr>
          <a:xfrm>
            <a:off x="914400" y="9907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10264" r="0" b="15559"/>
          <a:stretch/>
        </p:blipFill>
        <p:spPr>
          <a:xfrm>
            <a:off x="76212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986" t="2015" r="2986" b="85192"/>
          <a:stretch/>
        </p:blipFill>
        <p:spPr>
          <a:xfrm>
            <a:off x="990720" y="685800"/>
            <a:ext cx="67053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805" t="13243" r="54007" b="50006"/>
          <a:stretch/>
        </p:blipFill>
        <p:spPr>
          <a:xfrm>
            <a:off x="2133720" y="2133720"/>
            <a:ext cx="4343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990720" y="1066680"/>
            <a:ext cx="693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224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224"/>
          <a:stretch/>
        </p:blipFill>
        <p:spPr>
          <a:xfrm>
            <a:off x="6094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56065"/>
          <a:stretch/>
        </p:blipFill>
        <p:spPr>
          <a:xfrm>
            <a:off x="685800" y="1066680"/>
            <a:ext cx="7848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6T15:11:48Z</dcterms:modified>
  <cp:revision>45</cp:revision>
  <dc:subject/>
  <dc:title>PowerPoint Presentation</dc:title>
</cp:coreProperties>
</file>